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044B-D32F-4711-8A2D-2583B0CD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61C3-2EFF-4171-9FB2-44F4DE35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3105C-8E35-418A-BED1-08C1DD8A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E324B-265C-4AFE-BA8C-F7E7164F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F2512-B0A9-4737-BEDF-8ACE519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F2BD1-E7A4-4262-BBD7-A49CF41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A6B4A-AB4F-4218-929B-6F65600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CE7A4-3F7B-4318-8506-D63B7AB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9229C-EB6B-4E00-8255-52713996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BFD64-527A-406B-BD8A-0F52172A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84B15-BB19-4716-A99A-2853DE40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EF7D1-15BF-4EB4-B287-4DCA3998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D5C0-D1D3-4E46-B45D-4B14DEFF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A30A1-6EB3-41C6-B8FD-BEE38405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C920A-5597-4585-9053-6EA4A60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65828-FE00-4C7E-9A49-99A06840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7C660-4AD1-4667-BB62-57A8DA2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DC48B-5198-4308-A184-56D8CB6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C56AE-DD19-45D2-BC57-B458607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8D74A-F375-4849-8523-8C846B2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49680-7B7E-4172-BF53-14D7253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55BC9-BEC6-4189-A059-D4EE7CFF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7F5E3-DC77-4F3E-818F-EB2625B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9FEA-9C13-4CCC-AED9-DCBE1FC0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160BA-05B0-4815-8B29-F25A0FD0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5B14A-8F86-4D94-9D5D-1452EB7B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954AD-3517-42AF-91C1-859CBF7A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CAB2-A6F4-4056-AD5D-FF8E113D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A74E4-957E-499A-A238-41CFD8C4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104DF-8885-41B2-A026-8F9F93F0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FBE1C-61AA-4CB1-841A-97F1613C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C454-170A-4355-AB31-EF76E30E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0638E-1636-4519-AC88-B44D3592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58EEA-707E-45D1-AEFD-4AAAD53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AE64-E93E-4AA3-A8BA-EC3D74F3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A321-D843-4E77-B9CD-8DAA974D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FE488-C530-403C-B925-AFCA9089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DBBCC-13BE-4FEA-BC11-F802E862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C4A29-45F6-49AE-AEE8-F8E2677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B3CBA-05FE-4359-A4F6-524BDD5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A35C7-7497-482A-8289-A0241F3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BED17-165E-4070-A6AB-0E73C6A5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30FF8-7441-4170-90AE-829BDF01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63C2E-B27F-4ED5-A66B-0232DF6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73834-46F4-458D-BA49-127D623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926E-C558-435C-B411-6051122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B9E1E-A7F2-4FE0-890D-38ED10B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7C341-38FF-4283-9C6C-68312703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15D45-382E-4BD5-BD14-89683E5A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576B8-5CD2-489C-9F01-3E0A116F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4B1E3-12AF-4003-B65A-6DAA1686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B264F-7B74-4356-80F8-6EF764F9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E526E-FC88-4228-98A2-519558CF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BC186-3BD6-45D2-9FF0-5C8A77C1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AEA7F-81BA-4C5B-A5D2-85208AFD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3456B-6F80-4375-863F-72B1C0E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9F68-CF84-4CB2-8E84-CC709DE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6515A-F604-453C-AA44-D3B752A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6CECA-99FE-4DD3-8E00-1D2231F9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C2C49-D8F6-453E-A3F2-5F09297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3D662-F2B2-4847-9AD9-AD6D069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DFC3C-6F99-4B70-B359-ADDF9675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E5FCB-DBD6-47FF-8387-B71DC092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A199D-BB0D-452E-88A8-D918CE79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15C5E-2CEC-4910-8903-740E3685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491CE-38BD-4798-AC84-74247AFE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EF398-E673-4A1D-9B45-05F3B453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347A-C1B4-43E1-98CE-1BA2AE43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0EFA8-7167-4D6F-90FD-2335FE5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2C769-9E24-4764-B3F9-DC075F21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F0EBE-8726-4D0B-A93A-ECAB57E1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8AE90-3C27-45FC-AEBC-0AF02420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CB95D-DACF-47AF-9997-74F119DE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943DC-F20B-4189-801B-0E178DA1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CBFB9-AD9A-4AF6-844B-4C32F8B7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666F1-B11B-4131-9525-3EE97AB0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B8A3A-F5B0-4137-A5B2-11E6E562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BFDF-9824-48E3-875B-2603069D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7B7A-04E9-450D-84E7-7AD80CD4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8556-A631-4B37-BA45-0BFE24B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5C03-3436-4017-BFAA-4A125B25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0E5E-338A-49D6-B333-F5811D30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718E-07D9-427D-A974-984DAD4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BEB8-68F6-4E66-8514-08A776D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2BC8-58B4-45DD-A08E-D8E62558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22C6-9364-499D-AD5D-276A570F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9739-7004-4D46-9692-86CBC96A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0433-A09E-443C-ACB5-ECE68533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9D6C-5E6F-4FED-AD8C-E1EE43F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9AF8-8EC2-4B95-920F-DD93385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F1B8-519F-4130-AF85-86684E45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801F-2511-41E0-9CD2-2762E5AF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1D05-E8C6-42B9-A998-3EEE4A94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43DA-2B3B-48EB-AF6F-3D3BFA9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A486E-6358-40BC-8E89-A11BB3B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3F79-186D-4259-9951-3B31065F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9E42-5CE2-4BF4-BEA8-D8345D6B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6D19-2690-4D10-A4E6-724B73BE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D330-A80A-4BE3-9592-086F1F30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60B44-BBFC-4024-AE8E-830D50FD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0796A-0168-4CA7-AC93-F4D6791A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B3CAF-E002-4AD5-971D-451F2690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8667-2A1B-46EF-9206-4DBE067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4222E-3858-485A-9159-3908CA79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3DEDD-A299-4E25-AACD-78123137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7907F-D00A-437D-99F7-E0AD86E8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A4E57-4841-454B-BC0B-0F677F4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15F9C-EAB0-4224-994F-D4E6DED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E7BAC-48E7-4E2F-85B1-DC08C3C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6710E-2EAC-4163-9C26-3C4D2C58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3F24A-40D7-4798-A404-94EC0984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37C28-1051-4F39-9C6B-00FB3F8D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7AED-46FB-46E2-B593-AEADAE60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29E8-E3AC-4018-B55F-880EF312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E665E-C690-4C61-8FA4-A7F55A2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62712-51A5-4A83-9FC6-0C5F1E4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2F50F-BDE9-4F42-9C33-DFD3581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BF05-84C2-4708-A469-D1BC923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F748-AF92-412B-9D39-2B4B3852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E017F-26FA-4A09-AC65-2F641D2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0930-AA70-462F-AE39-B8C182A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0D43-4C06-48F4-8964-A1A9A21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B86D-F166-483B-8CC3-D867B588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C1D5-C765-4A3A-90D5-0B57F886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041A-A85B-4FCE-B550-98DA5705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E0C6-0E2C-40A1-AACA-B70DCE4E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9570-E6A9-492B-85F1-1AD7A433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6D5E2-052E-42E8-ADB0-55A4BAE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2C96A-7CD4-47A2-BA81-370001EB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0AC4-F67D-477F-9090-4A2FA1DE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4D53-1C98-4169-A6DE-39D9035C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C36B3-08ED-4A5D-8066-C5C6508E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3E152-271A-4E6A-8E35-A732340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06E41-C757-44AD-A8C4-313537B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664B3-7195-4A15-9516-8FE2429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EFBA-CDAC-44CB-9DE7-3238CCE1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F53A-2714-41D8-9ABD-FEBAA79F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07B75-34A5-4A91-9DDF-3FA9EF16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25B2-6DB0-42DD-92C4-63B4FE17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84546-B2CA-4DFE-86B2-ADDB5894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190DE-7040-4E80-92FE-0ED5B345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A0574-690B-48D2-9054-D167B6F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BE098-0B79-4090-A016-649C2C2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E8DFB-F177-45C5-8B79-1D7ABE45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8E71C-DAD1-4E09-8136-8AE8D194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98BE7-14A8-44AF-85CB-D684A06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572B-46D3-4036-885A-2F78C03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15AB4-4059-47D4-9152-C584CC99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FEC96-AF33-4A60-95EC-330F0BE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9DBEA-C73C-4FC0-B48D-D4D9FAF9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77BF9-DBE6-45AB-9E81-9A8E468B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1842A-CBDF-4328-892E-E718A4AC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D369-A8E4-4C6F-9A30-F0C379CE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2B31-1C7A-4459-B652-719B78A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7588-B067-4904-9CB9-1B4023E4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BB48D-837C-4EC1-9007-A026F780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25AD-F400-4813-8654-E92B9F27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7485-6564-4C08-8540-2F015DE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78AA9-B1FE-45A5-9AAD-F6AD2581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FF9EF-E944-4A9B-B7D1-9E10E0F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9FC3-7738-4595-B3F8-FB4B9C8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B0DB1-F796-4E5D-8C05-D582386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F8518-CAC1-4C2F-AA83-5F1B5903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E50D-EE4C-4E68-A8A5-63D9A813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5861-435F-4C0C-BCA9-B570DC9B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7588A-C69C-4FA1-9C24-4FC99CB0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097C2-293A-4BB0-B5D0-3E9DC5BB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053F8-5FD9-4004-90D8-D43AA67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208-5EDE-4CAD-B519-6FE49322FA6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535E-13AC-4526-B745-0F7ACB25359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5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72D9-50D7-498F-BAAA-097E1A82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E24-7AFB-4A71-BBD3-B12FFD904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FFDE-5A33-4F56-9272-C65A6AB870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5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F0B-8A0C-4A3A-8812-C6AE4B48C0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CFB1-E755-48F2-ADA0-6D5556863C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6285-C6C2-4272-85FB-A1FE89CE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F473-98C1-422A-BD77-2E1E4A3F6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6E20-2564-46FB-A443-E088D67EB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ACEF-5C7A-4728-BC8C-F5E4A830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592E-9E02-40C9-9C9C-2BF9EEC9B2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63B1-51CE-413B-B819-1786ACFF2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0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0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1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1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8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D6BC-78DD-486D-81D2-F383EB3EC56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hyperactivethyroidtreatment.org/wp-content/uploads/2010/09/thyroid1.jpg&amp;imgrefurl=http://hyperactivethyroidtreatment.org/underactive-thyroid-treatment-discovery-modern-science&amp;usg=__jORJxtrzG9aA3i5urXl8s271kZY=&amp;h=426&amp;w=351&amp;sz=20&amp;hl=en&amp;start=7&amp;zoom=1&amp;itbs=1&amp;tbnid=tXkhrCuH2o9k3M:&amp;tbnh=126&amp;tbnw=104&amp;prev=/images%3Fq%3Dthyroid%26hl%3Den%26safe%3Dactive%26gbv%3D2%26tbs%3Disch:1&amp;ei=65NRTeLYJsT7lwfQ1JmKCQ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ustin Cohen, Manny Castillo,  Elizabeth DelGado, &amp; Kyle Ke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4191120" cy="426708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 txBox="1"/>
          <p:nvPr/>
        </p:nvSpPr>
        <p:spPr>
          <a:xfrm>
            <a:off x="2971800" y="22860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roid Gland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othic Std B"/>
              </a:rPr>
              <a:t>The thyroid gland is located In the front of the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2514600"/>
            <a:ext cx="3585960" cy="43434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 txBox="1"/>
          <p:nvPr/>
        </p:nvSpPr>
        <p:spPr>
          <a:xfrm>
            <a:off x="3048120" y="38088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o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hyroxine (T4) and Triiodothyronine (T3) are the hormones that are produced from the glands.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3 and T4 are then released into the blood stream and are transported throughout the body where they control metabolism (conversion of oxygen and calories to energy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1371600" y="1522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rmones Produced and function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 Black"/>
              </a:rPr>
              <a:t>When the level of thyroid hormones (T3 &amp; T4) drops too low, the pituitary gland produces Thyroid Stimulating Hormone (TSH) which stimulates the thyroid gland to produce more hormones.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2895480" y="228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rol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When the right amount of hormones are not produced the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pituitary gland</a:t>
            </a: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 starts the production of the hormones T3 &amp; T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When the right amount is produced the hypothalamus tells the pituitary glands to stop the thyroids from the production of T3 and T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895480" y="3049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edback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thyroid gland makes and stores hormones that help regulate the heart rate, blood pressure, and the body tempera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666880" y="1522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unctions in men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In women the thyroids controls the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590920" y="22860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unctions in w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Every cell in the body depends upon thyroid hormones for regulation of their metabolism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th out it you will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4114800" cy="375300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4"/>
          <a:stretch/>
        </p:blipFill>
        <p:spPr>
          <a:xfrm>
            <a:off x="380880" y="66294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 txBox="1"/>
          <p:nvPr/>
        </p:nvSpPr>
        <p:spPr>
          <a:xfrm>
            <a:off x="2743200" y="380880"/>
            <a:ext cx="4419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ason why it should stay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8:59:19Z</dcterms:created>
  <dc:creator>707959</dc:creator>
  <dc:description/>
  <dc:language>en-US</dc:language>
  <cp:lastModifiedBy>707959</cp:lastModifiedBy>
  <dcterms:modified xsi:type="dcterms:W3CDTF">2011-02-17T19:12:09Z</dcterms:modified>
  <cp:revision>21</cp:revision>
  <dc:subject/>
  <dc:title>Thyroid Gland</dc:title>
</cp:coreProperties>
</file>